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6C388-4635-4B21-AA86-0BBF79A34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BD28F-0368-461C-9B77-4329EC173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ABD53-54F5-44FC-B9C6-126924639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4EAA2-E04F-4803-B432-7552688D3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4B175-B9F0-420A-AB15-18E70AAA5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EFF13-D817-4997-A8A5-9796546E0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566E0-72A8-47DE-95F4-365B5194F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00DB5-711E-402A-AB63-137E851A9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2BD81-C6C1-4B0A-9310-D4AF18289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DEFFE-DB64-47E9-AB1F-EE134D45C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BB6C3-9A69-448A-A6CF-1B18130E0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DCDE7-F1E8-4F56-A4CA-9C803F09F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35996-944E-4F0D-BF5C-3386A4831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921AE-BF70-4516-8968-F436A1F90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56283-8B74-4528-9688-641F1AAF6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B41BE-BFA7-4800-996E-4A2F16FB4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D91BD-543D-40DE-A045-896388BCC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BCF59-04AE-4309-8A22-0CB23E02B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28E42-07E7-47C1-853D-6A637AAE7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5CC90-E48D-4321-A771-E4E50274C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96423-1EC8-45F6-853F-69936872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FA1C1-51DC-479F-9047-701A256FA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67D40-655B-4CA2-8E27-8CF24926B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BC5F9-6EB1-423A-BDC1-0262CAB9A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1C81-49B3-491A-B8CD-A2E5AE1800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E9AB-B147-428D-87D3-5C75F7BA36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utoriat – Tema 1</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rea Orientata pe Obiecte (OOP) – Mostenirea. Constructori. Destruc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ul care pune in evidenta modul de functionare al mostenirii este urmatorul:</a:t>
            </a:r>
            <a:endParaRPr b="0" lang="en-US" sz="1600" spc="-1" strike="noStrike">
              <a:solidFill>
                <a:srgbClr val="000000"/>
              </a:solidFill>
              <a:latin typeface="Arial"/>
            </a:endParaRPr>
          </a:p>
        </p:txBody>
      </p:sp>
      <p:pic>
        <p:nvPicPr>
          <p:cNvPr id="115" name="" descr=""/>
          <p:cNvPicPr/>
          <p:nvPr/>
        </p:nvPicPr>
        <p:blipFill>
          <a:blip r:embed="rId1"/>
          <a:stretch/>
        </p:blipFill>
        <p:spPr>
          <a:xfrm>
            <a:off x="914400" y="2362320"/>
            <a:ext cx="5562720" cy="338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a 1.3: Creati o noua clasa “NrComplex2” derivata din clasa “NrComplex”, care contine un constructor public NrComplex2(double x), un destructor in cadrul caruia se afiseaza un mesaj corespunzator si un operator pentru operatia de inmultire a numerelor complex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enirea este unul dintre principiile de baza ale OOP</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enirea ofera posibilitatea reutilizarii codului, fara a fi necesara copierea si recompilarea acestuia</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 precis o clasa A care mosteneste sau este derivata dintr-o alta clasa B preia toate componentele acesteia, poate extinde anumite metode, poate adauga noi membri etc.</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 clasele formeaza o ierarhie arborescenta (mostenirea multipla nu este permisa), a carei radacina este System.Object (deci orice clasa o mosteneste direct sau indir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structor este o metoda speciala, care se apeleaza automat doar la instantierea obiectelo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le unui constructor coincide obligatoriu cu cel al clasei careia ii apartin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orul nu returneaza niciun rezultat si nu este nici voi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clasa poate avea mai multi constructori, care difera prin listele parametrilor formali</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ce clasa are un constructor implicit, fara parametri; dupa ce este creat (in mod explicit) un alt constructor, cel implicit nu mai poate fi folos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 deosebire de alte metode, constructorii nu pot fi mosteniti</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himb, daca A este o clasa care mosteneste pe B, atunci orice constructor al lui A va rula inaintea instructiunilor proprii instructiunile unui constructor al lui B; acesta poate fi specificat prin folosirea </a:t>
            </a:r>
            <a:r>
              <a:rPr b="1" lang="en-US" sz="2400" spc="-1" strike="noStrike">
                <a:solidFill>
                  <a:srgbClr val="000000"/>
                </a:solidFill>
                <a:latin typeface="Arial"/>
              </a:rPr>
              <a:t>:base</a:t>
            </a:r>
            <a:r>
              <a:rPr b="0" lang="en-US" sz="2400" spc="-1" strike="noStrike">
                <a:solidFill>
                  <a:srgbClr val="000000"/>
                </a:solidFill>
                <a:latin typeface="Arial"/>
              </a:rPr>
              <a:t>, urmat de lista de parametri corespunzatoar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exemplu: </a:t>
            </a:r>
            <a:r>
              <a:rPr b="1" lang="en-US" sz="2400" spc="-1" strike="noStrike">
                <a:solidFill>
                  <a:srgbClr val="000000"/>
                </a:solidFill>
                <a:latin typeface="Arial"/>
              </a:rPr>
              <a:t>public A(int x, int y) : base(x)</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zul in care nu este specificat niciun constructor al clasei de baza, acesta va fi constructorul fara paramet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destructor este o metoda speciala, care poarta numele clasei precedat de ~, nu are parametri si se apeleaza atunci cand pentru obiectul respectiv nu mai exista nicio referint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larea destructorului se face in mod automat de catre Garbage Collector – o componenta a limbajului care elibereaza memoria astfel, intr-un mod netransparent (actiunile sale nu sunt programat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ce clasa are un unic destructor implicit; acesta poate fi resc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xemplul de mai jos am creat o clasa </a:t>
            </a:r>
            <a:r>
              <a:rPr b="1" lang="en-US" sz="1600" spc="-1" strike="noStrike">
                <a:solidFill>
                  <a:srgbClr val="000000"/>
                </a:solidFill>
                <a:latin typeface="Arial"/>
              </a:rPr>
              <a:t>Fractie</a:t>
            </a:r>
            <a:r>
              <a:rPr b="0" lang="en-US" sz="1600" spc="-1" strike="noStrike">
                <a:solidFill>
                  <a:srgbClr val="000000"/>
                </a:solidFill>
                <a:latin typeface="Arial"/>
              </a:rPr>
              <a:t>, usor diferita de cea din prezentarea “</a:t>
            </a:r>
            <a:r>
              <a:rPr b="1" lang="en-US" sz="1600" spc="-1" strike="noStrike">
                <a:solidFill>
                  <a:srgbClr val="000000"/>
                </a:solidFill>
                <a:latin typeface="Arial"/>
              </a:rPr>
              <a:t>2013TutoriatTema1_OOP_3Operatori</a:t>
            </a:r>
            <a:r>
              <a:rPr b="0" lang="en-US" sz="1600" spc="-1" strike="noStrike">
                <a:solidFill>
                  <a:srgbClr val="000000"/>
                </a:solidFill>
                <a:latin typeface="Arial"/>
              </a:rPr>
              <a:t>”, avand unele elemente noi: constructorul fara parametri si metoda </a:t>
            </a:r>
            <a:r>
              <a:rPr b="1" lang="en-US" sz="1600" spc="-1" strike="noStrike">
                <a:solidFill>
                  <a:srgbClr val="000000"/>
                </a:solidFill>
                <a:latin typeface="Arial"/>
              </a:rPr>
              <a:t>cmmdc</a:t>
            </a:r>
            <a:r>
              <a:rPr b="0" lang="en-US" sz="1600" spc="-1" strike="noStrike">
                <a:solidFill>
                  <a:srgbClr val="000000"/>
                </a:solidFill>
                <a:latin typeface="Arial"/>
              </a:rPr>
              <a:t>, care este apelata de </a:t>
            </a:r>
            <a:r>
              <a:rPr b="1" lang="en-US" sz="1600" spc="-1" strike="noStrike">
                <a:solidFill>
                  <a:srgbClr val="000000"/>
                </a:solidFill>
                <a:latin typeface="Arial"/>
              </a:rPr>
              <a:t>simplifica</a:t>
            </a:r>
            <a:endParaRPr b="0" lang="en-US" sz="1600" spc="-1" strike="noStrike">
              <a:solidFill>
                <a:srgbClr val="000000"/>
              </a:solidFill>
              <a:latin typeface="Arial"/>
            </a:endParaRPr>
          </a:p>
        </p:txBody>
      </p:sp>
      <p:pic>
        <p:nvPicPr>
          <p:cNvPr id="103" name="" descr=""/>
          <p:cNvPicPr/>
          <p:nvPr/>
        </p:nvPicPr>
        <p:blipFill>
          <a:blip r:embed="rId1"/>
          <a:stretch/>
        </p:blipFill>
        <p:spPr>
          <a:xfrm>
            <a:off x="914400" y="2666880"/>
            <a:ext cx="4724280" cy="314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orul nu face decat sa puna in evidenta faptul ca a fost apelat, iar metoda calculeaza cmmdc folosind algoritmul lui Euclid</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oda simplifica a fost si ea modificata; acum lucreaza folosind apeluri ale metodei cmmdc</a:t>
            </a:r>
            <a:endParaRPr b="0" lang="en-US" sz="1600" spc="-1" strike="noStrike">
              <a:solidFill>
                <a:srgbClr val="000000"/>
              </a:solidFill>
              <a:latin typeface="Arial"/>
            </a:endParaRPr>
          </a:p>
        </p:txBody>
      </p:sp>
      <p:pic>
        <p:nvPicPr>
          <p:cNvPr id="106" name="" descr=""/>
          <p:cNvPicPr/>
          <p:nvPr/>
        </p:nvPicPr>
        <p:blipFill>
          <a:blip r:embed="rId1"/>
          <a:stretch/>
        </p:blipFill>
        <p:spPr>
          <a:xfrm>
            <a:off x="838080" y="2666880"/>
            <a:ext cx="497232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a FFractie mosteneste Fractie</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lus, ea contine doi constructori proprii, metoda public bool ireductibila() si un destructor</a:t>
            </a:r>
            <a:endParaRPr b="0" lang="en-US" sz="1600" spc="-1" strike="noStrike">
              <a:solidFill>
                <a:srgbClr val="000000"/>
              </a:solidFill>
              <a:latin typeface="Arial"/>
            </a:endParaRPr>
          </a:p>
        </p:txBody>
      </p:sp>
      <p:pic>
        <p:nvPicPr>
          <p:cNvPr id="109" name="" descr=""/>
          <p:cNvPicPr/>
          <p:nvPr/>
        </p:nvPicPr>
        <p:blipFill>
          <a:blip r:embed="rId1"/>
          <a:stretch/>
        </p:blipFill>
        <p:spPr>
          <a:xfrm>
            <a:off x="914400" y="2895480"/>
            <a:ext cx="4267080" cy="254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toriat – Tema 1</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orul cu un parametru de tip int apeleaza in mod explicit constructorul fara parametri din clasa de baza, in timp ce cel cu parametru de tip Fractie o face in mod implicit; efectul este acelasi</a:t>
            </a:r>
            <a:endParaRPr b="0" lang="en-US" sz="1400" spc="-1" strike="noStrike">
              <a:solidFill>
                <a:srgbClr val="000000"/>
              </a:solidFill>
              <a:latin typeface="Arial"/>
            </a:endParaRPr>
          </a:p>
          <a:p>
            <a:pPr marL="343080" indent="-343080">
              <a:lnSpc>
                <a:spcPct val="9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oda ireductibila apeleaza metoda cmmdc din clasa parinte (clasa de baza Fractie), la care acces pentru ca aceasta este protected</a:t>
            </a:r>
            <a:endParaRPr b="0" lang="en-US" sz="1400" spc="-1" strike="noStrike">
              <a:solidFill>
                <a:srgbClr val="000000"/>
              </a:solidFill>
              <a:latin typeface="Arial"/>
            </a:endParaRPr>
          </a:p>
          <a:p>
            <a:pPr marL="343080" indent="-343080">
              <a:lnSpc>
                <a:spcPct val="9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ructorul nu face decat sa semnaleze faptul ca a fost apelat implicit</a:t>
            </a:r>
            <a:endParaRPr b="0" lang="en-US" sz="1400" spc="-1" strike="noStrike">
              <a:solidFill>
                <a:srgbClr val="000000"/>
              </a:solidFill>
              <a:latin typeface="Arial"/>
            </a:endParaRPr>
          </a:p>
        </p:txBody>
      </p:sp>
      <p:pic>
        <p:nvPicPr>
          <p:cNvPr id="112" name="" descr=""/>
          <p:cNvPicPr/>
          <p:nvPr/>
        </p:nvPicPr>
        <p:blipFill>
          <a:blip r:embed="rId1"/>
          <a:stretch/>
        </p:blipFill>
        <p:spPr>
          <a:xfrm>
            <a:off x="1295280" y="2971800"/>
            <a:ext cx="3400560" cy="32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9T04:19:13Z</dcterms:created>
  <dc:creator>victor</dc:creator>
  <dc:description/>
  <dc:language>en-US</dc:language>
  <cp:lastModifiedBy>victor</cp:lastModifiedBy>
  <dcterms:modified xsi:type="dcterms:W3CDTF">2013-10-19T09:19:48Z</dcterms:modified>
  <cp:revision>30</cp:revision>
  <dc:subject/>
  <dc:title>.Tutoriat – Tema 1</dc:title>
</cp:coreProperties>
</file>