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50B-A339-493F-9374-12389958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B4C-D1EA-4A52-8D2F-D2298B34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AF4-091E-485C-8280-86BC5187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153-E3AD-4155-889F-C3EF11C2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705A-D9E1-48AA-8109-F60B9788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0576-4F53-47FA-889B-F9265904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C591-DCBE-465A-B141-7E405923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1D6F-AFD9-420C-8832-B389791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EA51-D9FD-46A3-B2AD-C078A997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1F85-0FCD-422F-B024-F8B954F2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CC73-C715-498E-8421-A1594475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198-E8C6-492A-A794-6E6ED6F9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2B5B-4FCD-4B55-B279-72563D6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3CD-C1AB-4A35-99EB-F304B419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C3D2-A3B8-4EDA-9FA4-4A2D06D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952B-5394-4F85-A924-ECA757DD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B6E8-172B-4E6A-95EC-3179CEC4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087-C0AC-42D9-988C-7905A249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D1B-BCD1-44A2-A567-61A178D1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C87-D002-4981-850A-EE2C72E6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B44-BCE3-4806-8C4F-C35955E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7BA-0FC6-4AF3-B2EA-6844718D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47F-D253-4CE9-B389-6762C283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544-DF41-403A-9010-849C62A5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271D-6BE6-4A17-AA04-7A5D654D8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ECC3-9650-45A8-ACB5-AEAC849A4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.Tutoriat – Tema 1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rea Orientata pe Obiecte (OOP) – Generali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 deosebire de paradigmele anterioare, programarea orientata pe obiecte pune accentul pe date si nu pe actiu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tiile sunt construite pornind de la tipuri de date (clase) si actiunile specifice aces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ele se reduc la interactiunea dintre obiecte (“variabile” al caror tip este descris in definitia clase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tajele care decurg dintr-o astfel de abordare se refera in principal la cresterea productivitatii si la reducerea riscurilor de aparitie a coliziunilor si eror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ile 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psularea: fiecare clasa are date (atribute) si actiuni (metode) proprii care pot sa nu fie accesibile din exterior ; astfel apare posibilitatea lucrului in paralel in echipa fara riscul aparitiei coliziunilor / anomali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enirea: clasele pot fi extinse sau specializate, nefiind necesara rescrierea cod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morfismul: se pot scrie secvente de cod general, pentru un supertip, acesta adptandu-se in mod dinamic la subtipul obiectului transmis ca parame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# este un limbaj orientat pe obiecte: programele sunt colectii de clase, ale caror obiecte interactioneaza in functie de specificul aplicat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ul urmator ilustreaza structura unui program C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toriat – Tema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810240" cy="2438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48769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4:19:13Z</dcterms:created>
  <dc:creator>victor</dc:creator>
  <dc:description/>
  <dc:language>en-US</dc:language>
  <cp:lastModifiedBy>victor</cp:lastModifiedBy>
  <dcterms:modified xsi:type="dcterms:W3CDTF">2013-10-19T06:21:30Z</dcterms:modified>
  <cp:revision>7</cp:revision>
  <dc:subject/>
  <dc:title>.Tutoriat – Tema 1</dc:title>
</cp:coreProperties>
</file>