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307D-4395-4541-AF50-83157A683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0587-49F6-4C82-9DE7-36A334028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6088-8159-4630-918D-CDD6F5BA7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C253-F7B7-4B2F-9B76-5141E533F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79F67-CED5-4866-A4C5-E8DE8153F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4DA58-A72E-40D2-A376-00B0C4F60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438B0-FCC1-491A-BCF6-B3771A7E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A2168-A758-49C7-B5B6-B8B18B5B8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B2FB5-2870-409F-AB26-C4796296E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FF621-DF60-454B-841D-9A71AC287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F6A98-B42E-4C85-A07B-11D635F9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4AB3-2A3A-443F-903A-CBA61C289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0CE21-9010-4BB6-9F92-D3C46CD5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B204B-C95D-449D-B23E-ECD7700B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51C24-46C1-4CAA-9D99-3A65DA183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5467C-46D3-4D7A-9093-6691C933D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C52DB-7BB3-46FB-AEE1-434F3627D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E4E7-4BBF-4BE9-947E-3BDD536A8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209A-844B-46E1-939D-8CFA2E38D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AC4D-287F-41E3-B34E-067522DE5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8C79-B938-4625-8466-61B2F969A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0036-1708-4E0B-A1C2-E2D2ACC6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1422-454B-4F9E-9841-AF113F28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5FAC-1A69-4045-B707-C788E02E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BB6D7-6B86-407B-BC07-634FDC71EE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A8AFB-D219-4C3D-AA17-DD2A6DAC8B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.Tutoriat – Tema 1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area Orientata pe Obiecte (OOP) – Propriet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.Tutoriat – Tema 1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ptul de “proprietate” este specific C# si a fost introdus pentru a permite limitarea accesului la membrii clasei (conform principiului incapsular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e deosebire de alte variante (declararea atributului corespunzator “private” si crearea unor metode “public” de acces restrictionat), in cazul proprietatilor, accesul din exteriorul clasei este mai simplu si mai elega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utoriat – Tema 1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lasa in care a fost instantiat un obiect care are o proprietatea, aceasta este vizibila la fel ca orice alt c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rietatea asociata unui camp privat trebuie sa aiba acelasi tip ca acesta si de obicei (prin conventie) are acelasi nume, incepand insa cu litera mare ; in exemplul urmator nu am respectat aceasta conventie tocmai pentru a sublinia faptul ca nu e obligatorie (proprietatea asociata campulu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 numest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loc 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rietatile pot avea definite metode get (pentru consultare) si set (pentru modificare) ; in general oricare dintre acestea poate sa lipseas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utoriat – Tema 1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mplul este o clasa “Multime” in care sunt stocate cel mult 100 de elemente de tip int (cu ajutorul unui vector priv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fara de vector, fiecare obiect mai retine un atribut private int n, corespunzator numarului de elemente ale multim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ul la n este restrictionat cu ajutorul proprietatii Nr; aceasta permite consultarea valorii lui n, dar nu si modificarea acestuia (metoda get este definita, dar nu si cea s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utoriat – Tema 1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brii privati ai clasei, constructorul si proprietatea se afla mai j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90720" y="2209680"/>
            <a:ext cx="26701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utoriat – Tema 1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odele care gestioneaza multime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417168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utoriat – Tema 1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ode pentru adaugare si afis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4743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utoriat – Tema 1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 exemplu de utilizare a clase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62120" y="2209680"/>
            <a:ext cx="58309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utoriat – Tema 1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a 1.1: Construiti o clasa “NrComplex”, ale carei obiecte sa codifice numere complexe. Clasa va avea un membru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vate double modu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are va fi calculat dupa formula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rt(a*a+b*b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unde a si b vor fi campurile in care sunt retinute partea reala si respectiv cea imaginara. Asociati-i lui modul o proprietate astfel incat acesta sa poata fi consultat din exterior, dar nu si modific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9T04:19:13Z</dcterms:created>
  <dc:creator>victor</dc:creator>
  <dc:description/>
  <dc:language>en-US</dc:language>
  <cp:lastModifiedBy>victor</cp:lastModifiedBy>
  <dcterms:modified xsi:type="dcterms:W3CDTF">2013-10-19T08:10:59Z</dcterms:modified>
  <cp:revision>12</cp:revision>
  <dc:subject/>
  <dc:title>.Tutoriat – Tema 1</dc:title>
</cp:coreProperties>
</file>