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267-72C4-4C24-8FF3-E7762465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AD83-1ADA-4540-9ADE-441FFFEE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277-C456-44E1-87F9-BF36CB71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BD6A-3295-482B-B980-8230FBF6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CE45-5289-4A0E-A6E5-0B540D94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F357-180E-4B37-8400-2B07A7FB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6ED0-3407-4F70-9ADD-578BCE81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94C8-7A35-4913-8D08-BA16511A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05DB-0AB5-48ED-91E7-21AA1D4A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31B6-A5FA-4A2C-A158-462214BF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6A46-5D2B-4803-AE79-549B9F37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33C-9D24-4FC5-B9DA-04213344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AAA7-FB38-4B03-9F65-1AF0DD51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0AE1-7C1E-4395-B311-D311A28E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8821-F98F-4FFC-99A4-05A2B120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6448-8F38-48AF-A801-428D9668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F57E-0D0E-40C8-B42F-81BFFC27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920-1D44-48D8-B78E-7BFCA56E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56A-6E5D-44C1-B9FC-E02C5380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806-E5D5-447B-B4D8-43897B30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2B2-7364-4CC6-9499-53AEE89C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1BA-C7A2-4957-802C-FDA8096A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2E66-B831-4755-AFF0-58E80A26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0F1E-72AE-4C16-B5F3-FA97CE38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E749-74D5-4F70-9CE3-EB7E3FE881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4C9B-3E95-4931-9718-50798664C9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.Tutoriat – Tema 1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rea Orientata pe Obiecte (OOP) – Supraincarcarea operatori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.Tutoriat – Tema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aincarcarea operatorilor este o tehnica preluata din C++ si reprezinta o extindere a conceptului mai general de supraincarcare a functiilor (metodel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aincarcarea presupune definirea mai multor actiuni care poarta acelasi nume, dar difera prin obiectele asupra carora au efect (paramet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utoriat – Tema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pecial in cazul operatiilor matematice este de dorit ca (pentru a face codul mai usor de urmarit si a reduce riscurile unor erori de implementare) sa pastram notatiile specifice: de exemplu, e preferabil sa scriem z = z1 + z2 in loc de z1 = NrComplex.aduna(z1, z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raincarcarea operatorilor rezolva acest gen de probleme; mai precis, atunci cand definim (printr-o metoda) regula dupa care se calculeaza un anumit rezultat, avem posibilitatea sa precizam ca operatia va fi notata cu unul dintre operatorii existenti (+, -, *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utoriat – Tema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n punct de vedere sintactic, acest lucru se realizeaza prin folosirea numelu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or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respectiv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or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or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tc. urmat de lista parametrilor formali, ca in cazul oricarei funct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lus, este necesar ca operatorul sa fie declar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membrii statici ai claselor nu apartin unei instante, ci sunt resurse comune tuturor obiectelor clase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utoriat – Tema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exemplul de  mai jos am definit o clasa Fractie, ale carei instante corespund numerelor r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a contine campurile private numarator si numitor, impreuna cu proprietatile asociate, operatorul + supraincarcat, o metoda privata pentru simplificare si metoda ToString, mostenita din clasa radacina Object, prin suprascrierea careia vom putea afisa obiectele de tip fractie folosind Console.Writ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51055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utoriat – Tema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 vom insista asupra proprietatilor (concept analizat in prezentarea “2013TutoriatTema1_OOP_2Proprietati”) si a metodei de simplificare, in care este aplicat Algoritmul lui Euclid pentru determinarea celui mai mare divizor comun dintre numarator si numitor ; despre suprascriere si mostenire vom dicuta in prezentarea urmatoare, urmand sa analizam si cazul metodei ToStr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orul + a fost supraincarcat astfel incat sa poata fi folosit pentru operatia de adunare a obiectelor de tip Frac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ost creat un nou obiect de tip Fractie, ale carui campuri sunt completate conform regulilor matematice specifice; dupa simplificare obiectul respectiv este returnat, reprezentand rezultatul operatiei de adun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6781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utoriat – Tema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ul in care este demonstrat modul de lucru este cel de mai j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instantiaza doua obiecte de tip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cti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le caror campuri sunt initializate prin intermediul proprietatilor corespunzato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nd operatorul + supraincarcat, putem scrie o expresie de form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1 + f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pentru evaluarea careia se apeleaza automat metoda denumit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or 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 este creat un nou obiect de tip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c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orita suprascrierii metodei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St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putem afisa rezultatul direct, apel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ole.Writ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53341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utoriat – Tema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a 1.2: Completati clasa “NrComplex” supraincarcand operatorii de adunare si inmult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9T04:19:13Z</dcterms:created>
  <dc:creator>victor</dc:creator>
  <dc:description/>
  <dc:language>en-US</dc:language>
  <cp:lastModifiedBy>victor</cp:lastModifiedBy>
  <dcterms:modified xsi:type="dcterms:W3CDTF">2013-10-19T08:10:26Z</dcterms:modified>
  <cp:revision>18</cp:revision>
  <dc:subject/>
  <dc:title>.Tutoriat – Tema 1</dc:title>
</cp:coreProperties>
</file>