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190-5D99-4AAE-9C79-DA0970E0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393-41D3-43F4-BD87-D3CFBC2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E61-0E26-4BF2-ABCF-EBB383A6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727-A05F-42D8-AFEA-42141527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4AED-3DCE-4E6C-BAED-410E86BB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81E7-2460-4EE0-AFF3-E6060DE2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615-5AFB-4EE3-9D89-5474252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D0A0-9163-4183-A110-59B0E62C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49C-4F7D-4921-9FA8-98999371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AFE-71B3-4C3C-9E66-86CE5B7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F424-3E5C-4458-94D2-353F1C3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985-55B2-4A9E-A749-E86917FD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1C02-E91A-409E-A15D-F14E975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3E5C-306D-446F-83F4-7AABAB5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ED21-98EA-4176-8410-A129D9F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C25-1121-40D6-89A9-769567C5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F44-C5B7-41A5-943A-00B4EEC9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D89B-B071-4A7A-A02E-7C1979B3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F0AC-2558-4777-A662-7D70B61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F3C9-B9A6-4C69-819F-BE47BAD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085F-0B5A-4D05-82C5-1E3AA6D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AD26-D5C2-4D44-A53E-F734013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E04-D4D0-4B4A-B43F-39A2D31C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41D0-79A6-4B37-837F-6A5848F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91E1-8BC1-44D3-B470-66B0C86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5E92-198F-4521-BE6D-022C448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81A1-1571-4240-A627-D60397C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DB0B-CD2D-43CF-B270-248DEF1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8A3F-8BCB-4DA0-A628-1F63571F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5E8B-702B-4698-98AF-3F2DD884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4A8D-1C89-4A28-9710-7DA12F8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7A13-7EA4-4DA1-9883-1124984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9DA3-2BA0-430C-8F9C-9AC9607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F38-8611-4EF1-B28B-9299691F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0773-17FE-4F6A-AEDB-E424A48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9957-A7AA-4253-BC8B-3A04DD24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61E5-BC48-42B1-BF08-2B1885C3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F4A9-D7B6-4EBF-B6D9-07A4418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9596-CF65-4212-80EE-E35C4BC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08E0-6483-499E-8F1F-3C618EC6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D3AB-DCC1-4301-A4A4-FE6526A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6CCA-F34A-4FE9-9F8B-64FB41BC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46E6-3F55-4C28-A111-08E636A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7119-E0F1-4B7C-BCD3-D06617D3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C17-6A69-408D-9E06-6498903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E974-D9DC-453C-AD15-0DF62E4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712B-224A-4446-9EE0-92AE5762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7FEEA-E395-4971-A3A1-8A71FD33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C4E6-6942-49B7-9E71-F403132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9BBD-1D74-42F4-AE23-C6BB4C4A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8540-727C-45D0-96BD-8FD53AA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7029-582C-43EF-A715-151DD03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2517-F934-4ACE-8856-0875AA3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F280-CAB3-4C74-882D-5C105140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58D2-8B06-4551-9503-8301B434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047-C15A-4913-99B4-1A1414DF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A1A8-6D3F-492F-A676-2833267A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A754F-075A-47AF-83E7-2F3961ED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9DC55-46D4-4D97-89CB-00AFCCC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1969-EA57-4EB0-B5FC-126B1E6A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AEE5-7EFA-4D39-B6EC-93CB7ADD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1C78-55E0-4884-8627-F18D0FCA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3E22-1E35-48AD-B01E-60E5549E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8068-37A0-4467-958C-4C2A7F6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7BD1-437F-4743-BA4C-5FCFAA61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A138-84FF-4D11-916B-F052339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F47-7C4A-4272-A585-AD75837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09D7-B9D5-4D4A-81CF-1045FE00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4701-42CF-40D9-AC41-0875572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9076-2782-4755-94E9-13A2E16B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DD4C-7D66-47BD-ACE0-86D35278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19F2-6C6D-441E-85E5-2D93861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FCA90-7275-42CD-BA96-649C595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B95D-9775-46E5-9CD9-C86C9FD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7118-F220-4FC2-8F69-572210F3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AC03D-12EB-4DEB-B98E-9121367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3E25-5814-4F66-A53E-D57F1041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A0B-E2D1-4C6E-8125-4B4FCAA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E223-7AF9-457C-B1F8-9D1348E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1758-E874-43E0-90D1-2EE379A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3325-375E-4469-B06D-F916A02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21006-3B44-4637-B947-0B05706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5437-12D0-4B59-8085-0DCE357E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B71D4-5F45-498A-BC24-D3AA74D4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A5AF-888C-452F-B616-6B88DB9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3080-01D0-4D09-9B4B-095B3B2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6730-5106-4D6B-8201-F344D006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5E08-405D-4013-8A4A-FF5C1DFC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B9F-B3D5-4000-847B-7C3C525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4C90-C9DC-4282-9FC3-2124D298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6BA9-095C-4C90-9A67-47FB9A3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E7514-EE9B-4BB8-A61C-0837FC4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47A4-D80A-449C-92E2-BC6868E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377F-4ABD-437D-8CD4-5A5546CA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3EF1-50B0-499E-9F60-BB0F35C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C015-41F0-4A4F-BC13-9BE9F8B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59E6-513A-42F1-BAEB-0D95BC02415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5E4-5347-409A-8984-EA0498B7AEF2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E2F-FACA-46B1-A11A-8262510B690C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DE19-7807-412E-B7D8-EC4941228019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E9BF-B543-4C14-BCCB-FCB12711BF8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5696-C2AD-41E0-8A58-CB3F4D3BB75D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789-3292-4B5E-BF9B-0C9E016E813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FC5-A11B-4DAC-9E90-E6EFFF9529B8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2F98-C39A-4881-9A4D-F8CFAFEE6E0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BE4-D666-44FE-A797-FE9A3052E60D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F2C-078D-4C4A-8820-551B02F24B4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8607-ADD7-4792-A51C-220DCFCBC7DA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142-BED8-4CB0-9B26-A15DBF21663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E5C-075E-4CB3-938B-EDABB13F7BE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294-0EF9-44F0-92EA-2F53CC4C7060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71F-D480-4FA6-A8C0-9E8AF941B066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Run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2FE7-2FBC-438A-9986-691C35C4193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104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reați un proiect cu numele NumePrenumeRunTime, pentru un joc de puzzle cu aspectul si structura de mai jo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unui buton nenul care este vecin cu unul nul, acestea se interschimb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307-E275-4E14-A1A6-722890235C3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7" descr=""/>
          <p:cNvPicPr/>
          <p:nvPr/>
        </p:nvPicPr>
        <p:blipFill>
          <a:blip r:embed="rId2"/>
          <a:stretch/>
        </p:blipFill>
        <p:spPr>
          <a:xfrm>
            <a:off x="3635280" y="2962440"/>
            <a:ext cx="48103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79200" y="1355760"/>
            <a:ext cx="8956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lasati pe formular o eticheta Label (indicatia pentru joc) si butonul Verific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clarati matricea de butoane si un vector de aparitii, pentru a verifica unicitatea fiecarui numar afisat in puzz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781E-B5EB-4120-8478-70E96199868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2771640" y="2541600"/>
            <a:ext cx="6039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680" y="836280"/>
            <a:ext cx="89568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ratati evenimentul Load pentru formular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201600" y="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518-97E5-481B-AECD-25989A7B67F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4680" y="3097080"/>
            <a:ext cx="4791240" cy="3745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580000" cy="26733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"/>
          <p:cNvSpPr/>
          <p:nvPr/>
        </p:nvSpPr>
        <p:spPr>
          <a:xfrm>
            <a:off x="4067280" y="580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Lucida Sans Unicode"/>
              </a:rPr>
              <a:t>Crearea instantel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5557680" y="64533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Lucida Sans Unicode"/>
              </a:rPr>
              <a:t>Stabilirea proprietatil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644364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Lucida Sans Unicode"/>
              </a:rPr>
              <a:t>Generarea numerelor distinc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7524720" y="36450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Lucida Sans Unicode"/>
              </a:rPr>
              <a:t>Abonarea la eveni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4643280" y="3906720"/>
            <a:ext cx="22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Lucida Sans Unicode"/>
              </a:rPr>
              <a:t>Adaugarea la formul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F4F-3907-40EE-B199-2DA9163F80B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250920" y="11350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Scrierea de functii utilizate pentru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-determinarea vecinului 0, in vederea interschimbarii, si interschimbarea propriu-zisa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250920" y="2023920"/>
            <a:ext cx="5781600" cy="2724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3"/>
          <a:stretch/>
        </p:blipFill>
        <p:spPr>
          <a:xfrm>
            <a:off x="250920" y="5022720"/>
            <a:ext cx="6505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5D0-B52C-4F40-A284-47075CA5C29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250920" y="1135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Scrierea handlerului de eveniment pentru un buton din puzzle (complet, inclusiv antetul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1092240" y="1989000"/>
            <a:ext cx="6886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855-CD34-4B8A-A5B9-7BE322F53B4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1"/>
          <p:cNvSpPr/>
          <p:nvPr/>
        </p:nvSpPr>
        <p:spPr>
          <a:xfrm>
            <a:off x="250920" y="11350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Scrierea handlerului de eveniment pentru butonul Verific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16080" y="2349360"/>
            <a:ext cx="66387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21:36:16Z</dcterms:modified>
  <cp:revision>218</cp:revision>
  <dc:subject/>
  <dc:title>.NET Framework</dc:title>
</cp:coreProperties>
</file>