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789-6FE3-4343-93BD-7C8B8204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B2F-EB4C-42EE-9D6B-64F76BD1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E87-3E46-4D91-8AF0-4E13656B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02A-88F8-424C-AD96-8267908D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93ED-774F-4323-BB64-E3CD58A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598-3AD6-49D0-806F-D4F6719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E9A-A410-4B11-8B82-A02A23DF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7995-0888-488F-BAEF-94EF9E9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9A3A-456B-4FE7-92B8-C73D2B4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6078-F3B3-4D88-8EC5-FC1053D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C91B-CCA4-4795-8AEB-A1706BB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38C-2536-42A4-908B-570634C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0D0-ECA4-4CEF-B033-E5F338D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C147-5E24-4A2D-9C25-B8D4A7B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277E-FC6D-4633-A0A8-D9926642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4FB2-A07A-4DD6-AE84-F72E312B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21F-3F74-467D-8374-85999DA0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A023-F5CD-491D-AC2E-FD660FC1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CC54-7000-49C3-8121-7FD84F58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54AB-22DC-41D1-8B6C-A710F4D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D328-B9DA-4669-8CF8-0D2EE8C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0A16-834D-4C0F-B69C-16A0367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D34-ED12-42A6-9E72-A99342A8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E444-E0CD-44A5-896C-58695248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A7B3-2911-4D96-A6A4-8CCB488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F618-42A7-4410-84CB-52F7A2E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32BE-38EA-4131-B058-5D8A11F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3682-9A5D-4732-8103-4D2D5F4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B0C4-1AED-4EC9-BCA2-42378F1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243-69A9-47F2-9B02-0E0334B8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767F-EDE1-443C-89D4-BEC9E97C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DD81-BF94-439F-BB20-35806810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F224-11A0-415B-873B-42D440A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C52-E904-4D98-82D8-E2157DE6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6C86-A3D6-4824-BE46-51822B6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4CDC7-43BE-4E88-88A7-79B8D586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951A-FDAB-4028-AD28-BA9B4C8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9795-679D-4EE3-935B-6D47442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DBC8-1A58-482B-A227-E1E9BA7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7984-11AE-47C0-9503-AAB8D15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E700-1C08-4425-BE94-54161A5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3C38-EE27-4FBB-AC01-F92F9744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935F-47EC-4300-B534-DC5A0B9F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18F6-864D-48BF-B376-44D71D7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872-4BBB-4039-AA85-280D9430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7129-4572-4AE2-8CE7-DA5F917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A0C9-4E9E-456B-9CA4-F947AC5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A283-02A2-4956-B30B-D6E4E72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1731-0217-41C7-915C-203AC238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9C37-FCB7-41E3-B716-3119C64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8B79-C895-48D5-947F-DD97BDA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B815-07B4-48E5-84ED-76260D0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ECB7-3554-4A50-B0AC-164AEEE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1DEC7-97E8-4A97-82EC-DD06221D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8A00-0D96-43F0-BE7C-BD7BA8E1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237-2553-4EEA-955A-5EB37D14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64F9-B07B-4989-89E1-EBB6DD3D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0335-0751-466B-B45D-47132628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1916-82D3-48B0-9006-512BC19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1F87-1270-479C-878E-3ACD582B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C6FB-35E8-4FF5-A240-FB0D3CA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41DB-986D-4A52-A84D-3E0D811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0651-DB91-4FAD-BAC3-D59271C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8D48-F4A1-4111-8C06-2A89AD3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BBE9-17FE-472D-851A-0239DD6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42D4-56EE-4F6B-9E10-FFBB195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D47-E0F8-4998-ABC7-75229E4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CFCB-989A-4E7E-B08E-DF4D9D89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57B4-C516-4043-8C5B-F61B556E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3217-F133-458B-96C8-C86D7CD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891E-484D-4C1C-AA77-1734A512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96C0-8639-4FBA-97FB-EA73CDF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D7C3E-63A0-4318-BAC3-ABA16134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FF62-AA78-4FBF-97F8-9ABE47D0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0860-74B9-4B87-B9DA-C7613D6B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A2B46-FB51-4D97-920E-2C7CBC3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7962-2D9C-4AE7-B70E-0B14275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2F6-CEBF-4E27-8CAD-65ED085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F8A3-0D32-4058-A1B8-0A8F4D6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2FC5-B42B-40F3-8F9B-068756E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31E9-EB90-41D8-B5D2-4C36431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DE449-C454-4900-9FAB-246F215E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47930-2174-4463-A659-AFDA23F7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864D0-D7C8-4985-9042-0AC4ACBA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4A2E8-ACF6-486F-A7B7-B8F21AEC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8AEF-8E13-4D90-9B62-6A5055F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BC0E-2FF5-4EE3-BAA5-AEE1125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736C9-52E4-42F2-B585-9DFEDC5F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54C-E91A-4593-B368-232238D9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2491-AE0D-48F0-AFBB-3B3B48B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337F-1A45-436C-9B95-22C4849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71FE-BD06-4DB3-811A-E762014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08CA-23F6-4C97-A341-006C08B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2F1CF-AEFC-4B3F-AD06-3022D6D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85DDF-7A1B-47E0-AAF7-7E205543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61B4-D1FA-4620-B359-37DAD8E5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2299-2C2B-45DD-A55B-3854A8111B5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CFF-FBD2-4F59-9F18-1DA03231AD0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r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ă liberă 7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ă liberă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ă liberă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drept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CE3-3349-4C58-A01C-B14528B67AEB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DD41-2699-45B1-9F20-1562501CB5E8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În zigzag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381-D860-4C05-859C-BAE6D3EAABF5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40C-84E0-4DCD-9A71-84AFAEB367F1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E7C-45C6-4B00-8148-92C7F6F1CD1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2081-E96B-4942-AFFE-775AB64FBB5B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41D-7CD9-4DE2-820C-3F1C6C5C1277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BAD3-F6CA-41CB-BA31-89B217E8A04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C1B1-C63C-495D-BBB5-F1E77E3B877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3D2-7888-4EB7-BD41-2F27A6B8461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5CD-E634-48B2-817B-34CE0D7A82D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6DF-A593-49F3-BA84-0F08087EECE5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ă liberă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unghi drept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unghi drept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drept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În zigzag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E717-CCE8-46CA-AC79-EF1F5884DDAD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DEF0-BBBA-4DB6-9485-5B1576316497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Programare vizual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464646"/>
                </a:solidFill>
                <a:latin typeface="Lucida Sans Unicode"/>
              </a:rPr>
              <a:t>Aplicatie ColorDia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80E-820C-4B95-BC99-FCDE8D7868D8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iati directorul AplicatieRichTextBox cu numele NumePrenum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alo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schideti proiectul AplicatieRichTextBo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n directorul copi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entru edit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adaugati butonul Culoare care sa permita schimbarea culorii textului selectat in zona de text, utilizand o fereastra specific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9AE-E10C-4E12-984D-972273AE693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2"/>
          <a:stretch/>
        </p:blipFill>
        <p:spPr>
          <a:xfrm>
            <a:off x="1897200" y="2057400"/>
            <a:ext cx="5333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83960" y="738000"/>
            <a:ext cx="895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lasati pe formular un buton de tip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utton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ocalizati in ToolBox control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lorDialog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si plasati-l pe formular (va aparea in partea de jos a spatiului de lucru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u 2" descr=""/>
          <p:cNvPicPr/>
          <p:nvPr/>
        </p:nvPicPr>
        <p:blipFill>
          <a:blip r:embed="rId1"/>
          <a:stretch/>
        </p:blipFill>
        <p:spPr>
          <a:xfrm>
            <a:off x="347760" y="0"/>
            <a:ext cx="835164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E26-E426-46C9-8590-0175695C9E6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2770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79200" y="1484280"/>
            <a:ext cx="8956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ificati codul din handlerul evenimentului Click al butonului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lor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stfel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u 2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3520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860-75A4-447E-B65C-BF4DD476AA5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467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22:31Z</dcterms:created>
  <dc:creator>DANA T.</dc:creator>
  <dc:description/>
  <dc:language>en-US</dc:language>
  <cp:lastModifiedBy>admin</cp:lastModifiedBy>
  <dcterms:modified xsi:type="dcterms:W3CDTF">2013-10-18T19:22:49Z</dcterms:modified>
  <cp:revision>223</cp:revision>
  <dc:subject/>
  <dc:title>.NET Framework</dc:title>
</cp:coreProperties>
</file>