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7F3-F4D4-48E8-A170-A32F0AAC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BCF-F7C6-4F1B-ACA2-332445D9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9B2-D5B7-47F0-9FD5-53175338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045-7516-4902-B3F0-4276B30F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7386-8C50-4367-91DE-AA347182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5D8E-DA45-4A19-BADA-C4101360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842D-C7BD-4198-BA69-239E4C6F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4D41-8CFA-4FF7-99B3-145B138F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E939-DD00-4297-97AB-D434CD4F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FB75-6EE5-44F4-9387-805A8E32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56FA-EFE6-4EA8-A3E2-94A24FD0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F3A-209A-486D-9F7B-535B73B9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ADA3-F286-418C-A071-A9B8D69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7067-BD24-42B8-BE05-573ADA78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912D-A396-4C75-9566-E6705173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EB07-A9EA-43E8-9B4F-AB9FD32C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EA69-31BA-48C1-8F80-9DC21845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6CE7-38D8-41F7-A0BF-26D37370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B9347-DA30-414C-83B9-5F630068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F1CEA-09C3-4154-A8DC-B6337900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93E1-C81F-423B-A16E-4B0470A6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9B2C-FAC3-47F3-AA9C-3751AC66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3E9-4CDE-4B6F-A725-7C281538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4D5F9-90F2-43A7-8BD9-8A93A0B4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1165-1568-4CFD-846C-5E547CFB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5A7B1-117D-4786-B994-7801F71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D4E2-AFA7-469D-A12C-4CFBECBB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C270E-B0C8-4503-8320-61E73D85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C538-1308-45A7-A011-64C3B8AC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9DA4-49FB-43EA-BFCC-0E13A2F4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6052-95C3-4AF3-A5F1-FDBE61ED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824E-C410-4D25-8970-3095D063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727F0-6815-4D0F-9AC8-5FE77774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689-D4B0-494A-8DAD-69645F7A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0D825-2FFE-411A-BDFF-B2B70A7C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549DC-D5B4-4BB7-9A5F-E9188AC9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A508-3C3A-40B9-9E3D-03361AE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AF1A-A318-4AA5-A08D-98D52726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3DDA1-2450-4696-A432-2F1E909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06D49-21C3-47DF-AF3F-81333E48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07BF-5A76-4B07-8359-61C15D14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23DE-E5F3-4CF2-A68B-7A7860FF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0877-4029-4139-BB28-4FC208BF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256CE-6375-4FDD-A50B-E85DF008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24D-F740-490F-8D12-24D3D786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C977C-69C6-47DE-AF84-7CFD7B95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CF130-10A1-425C-8D26-38F3F3F9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DADCF-7DF9-4846-867B-ED6F7F6D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B0D52-5131-4AE0-BF21-604ECEF5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F888D-5787-4500-95F5-0F60B159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36D6-63D7-4688-9829-07ED458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0154E-1BC3-4C9B-A757-0A50B997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2B77A-966D-4016-94F2-203BC176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78B0-D413-4634-A462-0FE6BCF1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317D-8E12-4DB8-AD25-5ADE3323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99D-66A0-4EC2-95FD-5FBB0F9D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3BCFE-8A74-4627-B666-93EFAF37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29F44-56E5-4C32-8F24-4A303BB1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C1177-9225-4DDD-88FD-50FF3E92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65B51-A79A-4A5A-8055-C96545C8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926B2-7557-4DC9-A589-ABBA707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14398-987F-4A96-8956-0ECDFCF2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09ED2-A4FC-4962-B567-2CD0272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32B0-81F7-4AB6-88E4-8ED4089B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B2250-9827-4266-8542-7B56DA01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F1327-ECFF-41F4-AB48-6520E46B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86C-5A95-4452-BB87-FFA0B9B1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2DBF0-7681-40B2-B1ED-89FE766F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FAF6F-D068-4AAE-AE69-EABE720B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BDF8-8429-42D0-BCC5-EDBE1E01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FD73C-63F0-4894-8DD0-B122BEBC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9836F-63CC-46C0-9EAB-BA8344CA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76757-82B7-46B5-BFDE-93CCF3E8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F6C61-00C4-4C03-BCD7-07099A20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73B0C-E1A9-4A0A-89CA-B4396DA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1969D-51FD-4E43-907A-592D2C8F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71F96-4DB8-48DE-91B9-A7958A47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CEE-0320-410C-BCA5-2788C4FD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E7F0E-0660-4E80-8C1B-A3259E92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53E23-EB37-4B49-AB58-0901D455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64908-5674-4069-A746-C24E8256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2DB28-4475-4231-BFF1-E302C003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354CA-C051-4686-97DC-C5079304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B1E3A-4C11-42E3-8354-E26718A9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6A1B9-6443-4E43-B3C2-029332EE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CB508-FCB0-475B-B9AD-D53310BB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2C8EA-DF3E-4D69-A7C2-580D9C1D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63B34-65E9-4D09-BD0F-3CD73941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84F-2D7D-4680-A649-6AC361F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3FA73-FB29-4918-8213-ABDD7EDB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975BB-7FCD-4AB4-9596-BEB1616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AA5EF-D08F-4479-8CC9-E647AB76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2AA0F-DAC3-4DD1-839E-3CBA59D0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03DAC-2471-4DBA-B9DD-ABECAA47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7A0A2-794A-4058-BCDD-CDF47CEC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F3257-4FCC-4685-95D9-045663A5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38CB-3F42-4016-979C-3C0621B0AD30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3B95-8FCB-40EC-9C2C-68BF00EE9649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r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ă liberă 7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ă liberă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ormă liberă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ector drept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8C47-5029-4AD9-9F40-E2C30FF00537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98A0-AB41-406B-A23B-048422E9710C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În zigzag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C08E-2201-4759-8216-FFFA7CE1B2FF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55D6-5CF0-466A-B7CE-80A83ADDD986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5FD9-7595-451C-AF51-EB43F135EE16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32E1-38BC-48FA-8BE3-A7FBB18083A6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37BA-15AA-478B-A643-50899F095306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298D-FBE6-4C21-B087-D257AD9801F1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7FC6-234E-4A0F-BDB1-2DE0944DA860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02B3-73C5-443C-A590-72559CC0F89B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878B-C1A1-4169-A07E-37C0D1A1F31A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22EB-A952-4664-A07D-9FC7CC3590B6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ă liberă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unghi drept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iunghi drept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ector drept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În zigzag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60EA-F1BD-48F7-A96D-D4A418F925F7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7E7B-0AA4-45AA-B313-4A4976EBF408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Programare vizual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Aplicatie OpenFileDialo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5B61-817A-4104-8054-3099CB3BD39C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148104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piati directorul AplicatieRichTextBox cu numele NumePrenumeOpenFileDialo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schideti proiectul AplicatieRichTextBo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n directorul copiat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pentru edit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i scrieti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odul necesar pentru 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a apasarea butonului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schide fisier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sa se deschida o fereastra din care puteti alege un fisier in format rtf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are s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 fie incarcat in zona de tex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0177-DB1B-4AB1-AD3D-87306C58A12C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9" descr=""/>
          <p:cNvPicPr/>
          <p:nvPr/>
        </p:nvPicPr>
        <p:blipFill>
          <a:blip r:embed="rId2"/>
          <a:stretch/>
        </p:blipFill>
        <p:spPr>
          <a:xfrm>
            <a:off x="1547640" y="3213000"/>
            <a:ext cx="4105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83960" y="738000"/>
            <a:ext cx="8956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dicati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ocalizati in ToolBox controlul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OpenFileDialog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si plasati-l pe formular (va aparea in partea de jos a spatiului de lucru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u 2" descr=""/>
          <p:cNvPicPr/>
          <p:nvPr/>
        </p:nvPicPr>
        <p:blipFill>
          <a:blip r:embed="rId1"/>
          <a:stretch/>
        </p:blipFill>
        <p:spPr>
          <a:xfrm>
            <a:off x="347760" y="0"/>
            <a:ext cx="8351640" cy="114624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61F5-F7CB-4D4F-B596-7565AA314483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6203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83960" y="738360"/>
            <a:ext cx="895644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 fereastra de proprietati a acestui control completati corespunzator proprietatile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Title: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Alegeti fisierul!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Filter: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Fisiere RichText Format (*.rtf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*.rtf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u 2" descr=""/>
          <p:cNvPicPr/>
          <p:nvPr/>
        </p:nvPicPr>
        <p:blipFill>
          <a:blip r:embed="rId1"/>
          <a:stretch/>
        </p:blipFill>
        <p:spPr>
          <a:xfrm>
            <a:off x="347760" y="0"/>
            <a:ext cx="8351640" cy="114624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5955-0B06-4224-B21A-0EEF5C529B3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971800" cy="46861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3564000" y="1989000"/>
            <a:ext cx="4905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79200" y="1484280"/>
            <a:ext cx="8956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odificati codul din handlerul evenimentului Click al butonului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schide fisier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astfel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8160-B51A-4CD8-998D-C1F7A92CCE4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8483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4:22:31Z</dcterms:created>
  <dc:creator>DANA T.</dc:creator>
  <dc:description/>
  <dc:language>en-US</dc:language>
  <cp:lastModifiedBy>admin</cp:lastModifiedBy>
  <dcterms:modified xsi:type="dcterms:W3CDTF">2013-10-18T18:43:57Z</dcterms:modified>
  <cp:revision>218</cp:revision>
  <dc:subject/>
  <dc:title>.NET Framework</dc:title>
</cp:coreProperties>
</file>