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115-0CC7-4FA9-9BA5-3E59E294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C3A-930D-4699-AA12-209CAE14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081-0B81-4D4F-9D01-295B41D5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6FB-2F61-47F3-AE81-C299D356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C8C-795F-4288-BC48-81D12138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65D2-93C0-41E3-9F40-6D74C1F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D484-6445-4FA6-95B7-C6DAC26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A1F3-02F4-409E-B6C7-3E925A21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0D39-C221-4937-9C78-B2BAC3C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790A-5E8E-4BDD-BBE8-5E8AA0C3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9057-3508-4EC4-8F9E-D99D436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915-2242-4587-B445-1847764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139B-4992-4C59-AE50-E2CE9FA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ADA3-308D-42F5-AD7E-BEE600B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672D-D389-4C4A-970E-AF60F6A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A65-4BE4-415B-AB32-41397647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AB70-545A-4E50-97C5-F22DD730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09F0-CDE4-4B14-9F96-1BDFD1DB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F83F-D5CF-4D14-9E5E-258BF58F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445F-26AD-477E-8728-1B6E7FD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ECFF-6EA7-46E8-8469-92CBA23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62D7-4402-44C9-B010-38D636A2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900-D940-4823-A057-3688BB48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A2CB-B451-4D6D-BB60-C493840F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4CF1-5EFF-4C44-8E9B-A611E2F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3062-CDB3-4594-920D-A9FFC26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F682-053C-4398-A13B-545BDCF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0E5B-A6A4-4B44-9F6A-59E28C38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525D-5C0C-4737-B318-B0E37609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A4B7-A00F-490F-8A4D-7C18C9B8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EBCF-EF90-493B-9B15-C8B0F8CF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37CC-BB8B-4A9B-A75F-EBA43FC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996A-B955-4077-9907-41933039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9DC-FC6C-4CDA-8CA7-F4A9FF61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A66E0-2B24-47AE-B3E0-F760FD0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0C86-BEF0-4293-A308-4EDEE258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82FB-B866-43CF-8F30-C056925B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45B9-E239-4581-905B-DC998A7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F91B-9F60-4E17-8A9C-F3E009D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0791-E3D6-4615-8592-3FE4DAE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BA4C-7E53-4DF5-BBFF-2674FAB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0970-63F7-4238-A316-DADC0050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645E-DB89-43FF-A9C2-5069B3B1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0CA8-EDDF-4954-AD2E-8D93A95F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9AD-52FE-4DF0-8BB6-702B13F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7EF7-AFDD-4EE5-9F0B-6904FFA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3166-9680-4D6D-802A-4C48CCA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780B-85C3-4611-90CB-F9B9266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4319-235F-411B-B5A4-E1DFE6A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C085-DF59-43D8-8B03-ED1D555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1F67-A451-4A66-B49E-A9C33A0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8481-9AAA-48D0-80DB-F4C0E73B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0D1C-23A9-4CB5-96F2-DD54F7F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BA4E-2836-4F5B-940D-D9FEFB94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32A8-9834-47BA-B43A-76A78738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835-28C3-4C0E-A690-ADDF3E1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09BB-32B5-434E-8752-260D6A3F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B353-8055-4D27-847A-1C826426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119E-F270-497A-9D65-8E400CE8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F7797-FBC3-48AF-AFF4-EFF8CEFB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74DDA-FAC5-49D5-A2EB-81EE15F2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88E2-5F10-4ECF-8663-B61EC59A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64BA-8A66-495E-BD72-00156209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3953-DE63-4BAA-AE71-4246381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1481A-55D8-4613-B5E7-E339E8D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1C63-E1E3-442B-B775-78260A69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5A0-04C6-40A9-94B7-FD73C68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B6D0-1392-4ECE-A394-B1907033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8280-E250-403A-A49D-57E965F0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7441F-F808-4AD2-9A6C-0E2B12A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3328-F826-4D0E-926F-CC8FB8C6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6686F-9AC3-4FDD-9CC4-6BBBABA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91E59-1156-4B1E-A05E-79B2A238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BB4A-59D4-41D1-8212-960316AC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00B0-1B2A-4B13-BDBB-1D7617B7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591E-985D-476C-BC79-FF9FD0B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30C83-4C98-4583-9D90-532A25D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2C7-0157-4BA9-9A94-39248DD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8733-B756-4759-ADB4-3DB0598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EBC4-FBCD-4B4B-A123-7F44137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2960-167C-4CC6-963E-30A1270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D9D1-2DCA-490C-A298-3F672D87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1A9C1-FB24-4F1E-B89B-44680E34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460D-7D40-4341-A9B6-A11B792D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DE47-C47E-46CC-AA0A-028BC0E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EF5FC-4EF9-4ADC-B004-4B7E85E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3A2C-4E9C-4BDD-87E0-9B4D27E7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CD204-5816-4A81-998B-53F98C70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B0A-962E-4A60-97A8-0F9D094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80DDA-B126-481B-B75D-7F5AC7F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2D69B-95D5-4024-A0FE-69C3A28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6A5E7-7620-4730-89E3-C894A27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11069-54C0-40E8-A5CF-F6EC620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6A48C-2C4B-4DD0-9B24-AF3B9629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7E67F-6E45-49CB-9EF6-BBADDE95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8EC1-AD69-407B-B6B4-469A7589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415A-37E0-4D8E-8617-A9E5ABAA95B1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E761-47F3-4F9F-AA08-B7129BDDE69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0AB4-2D4B-419E-8C2F-0E1E4790E0EA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3BB3-C5B3-4DE0-9D59-C941A84051AB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47A-F5FC-4FD2-A3AC-F51AFAD07D4F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311D-8BCA-453A-84F9-7124F501ACE8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A93-15C7-4F49-9AD6-2DE22A1FBF63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94F-D839-4744-9EB2-0A542E7D8730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9F2-9639-4D8D-8F24-FBAD0E83DEDE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B848-7051-4E0F-BEDE-D0CEE60C6601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A85-E8B9-4C80-8CB1-40464F7E6B0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55AD-39C9-48A5-B2AA-64FF9F9D65B9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53A-4F2B-4C5F-A4CA-6502DF705810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AA9A-F0D9-4D2A-BA94-E2ABCAFB2377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B709-150A-434F-812A-EE754AD475C9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9FD-61BE-4CC4-896F-47BCDB9E6CF5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RichTextBo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B9D8-54FF-43AB-B314-E1DE5ADAF9ED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48104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. Creați un proiect cu numele NumePrenumeRichTextBox, cu următorul aspect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8621-AEF6-4DA6-A3BC-725B43702E0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539640" y="522936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ndicatie: plasati pe formular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un control de tip RichTextBox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șase controale de tip Button (Fisier nou, Salveaza fisier, Deschide fisier, Copiaza, Lipsete, Decupeaza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Picture 9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4105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9200" y="1355760"/>
            <a:ext cx="8956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2. In directorul in care se afla fisierul executabil al aplicatie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(NumePrenumeRichTextBox//NumePrenumeRichTextBox//bin//debug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reati fisierul exercitiu.rtf (in format RichText) si scrieti in acesta numele dumneavoastra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3. Scrieti codul necesar pentru c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isier nou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extul existent in zona de text sa fie sters comple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 fisierul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extul existent in fisierul exercitiu.rtf sa fie incarcat in zona de tex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alveaza fisierul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extul din zona de text sa fie salvat in fisierul exercitiu.rt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piaza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extul selectat se copiaza in Clipboar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ipset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ntinutul Clipboardului se insereaza in tex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cupeaza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extul selectat se copiaza in Clipboard si se sterge din zon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Observatie – Application.StarupPath = calea catre directorul in care se afla fisierul executabi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162D-FBAB-4CD7-A904-6C88C0F89AC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79200" y="1355400"/>
            <a:ext cx="89568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e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ratati evenimentul Click pentru cele sase butoane astfe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6533-D37E-46CC-96BC-87E931C3B34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173160" y="2349360"/>
            <a:ext cx="8972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7000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470-F239-4EE8-8D5C-F696019E662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62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18:03:53Z</dcterms:modified>
  <cp:revision>211</cp:revision>
  <dc:subject/>
  <dc:title>.NET Framework</dc:title>
</cp:coreProperties>
</file>