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B65-78A5-4EF6-9C97-35714012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3FA-A4F4-4243-A9A3-5D5C416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182-30F5-4F10-BF70-1679E72B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B0F-44A9-4CFC-8B80-5BFFB5C0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8D3-B83A-474C-93D8-3D82BB89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2653-B2A2-424D-A40B-C4392A4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F6A-2209-4C6E-A3BF-E3077F10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38E3-57A0-4311-AB8F-53705AC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54E-E143-40B9-8B9A-C7B94D5F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8C0-F0BC-4BE8-B6D8-34AAD5A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A1A-EA92-4F0E-A650-1B024DC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634-DF30-44E1-B76E-9351193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66A5-1A26-4D08-9105-BB3E993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A7B2-5FB4-4787-A2F3-23086AE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F942-D86E-4224-97C9-E1C6E98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E6A3-2426-4268-8F64-A178C120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C93-DD78-48B4-B244-CC64B950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010B-4919-4A6E-AFE0-AD6A9FC9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81C4-48A2-41ED-9EFB-39AEDB29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508A-D59B-4211-872A-95D832E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00A1-3612-4494-890D-6CA9D0D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D9FB-04B9-479F-8D98-9CB3821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8BD-8C7E-4C89-BC66-6D10ACE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1DB0-7812-4080-97E6-9BA3DA6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4A1B-2911-4D45-A5B4-D06728F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CD01-25A6-496D-802E-13DE07A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ED25-8BBB-4F2B-8E13-21C622A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E272-9BDF-4858-803D-F159F3CA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3674-BF8C-4D56-AF5C-60174D8E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0747-F198-4C15-B71E-7E5DF295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A25F-7F19-4609-9CDB-3AC1F765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B7B7-4200-4CC3-8A29-DD293960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B7FC-22CB-48A7-A7FA-42E96FE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107-5506-49D5-B097-22278420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DC99-0B92-4C38-AD8E-92044AD4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BD6F-A195-4868-93C1-590D6F89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A34B-AD3E-491B-BFA2-74FF148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4D04-E06F-40FC-BB28-CD045D15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2C48-C98D-4F3A-BD06-C936322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4710-DC77-4100-8AF1-B0D5B46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F5AE-6BEB-4F4E-AF1B-CF19D2B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4109-DD8E-4B91-BF1A-72F7E8C2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23437-38B8-40CF-9E9C-C3C93B9F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1376-9096-4E54-8D93-05D5677F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1C9-2FA3-4F3D-8378-CD1C735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D335-D1EF-4485-908C-F40883F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595B-A0B6-4857-A102-92A07E9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C657-9D4B-46E3-9BC6-EAEC1AE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4E15-F4AD-4D32-8567-4308123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4FE4-022E-4E93-904C-820C0B75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BE66-FC5E-449B-A6B5-C14E1B2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E913-5DEA-402D-9904-A900811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1C02-59C7-4F79-BDE5-8ED217A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B1A2-D40C-49AF-854B-32AA7846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312C-D432-44FA-B066-0114285D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175-7E13-4F9C-A10E-B8F8CAB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644B-3EA7-4BA9-B7C7-586A1CDE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519A-05AB-4EC4-A8A8-35D0D59F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C28D2-C23C-4070-AFD8-6B3C7E0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8BBA-CCD7-4884-B7DF-8BD1627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73AD-0810-44EE-886F-559DD10D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9EE1-2418-4F32-B2BF-3454CA5B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0357-7DD7-43CF-B3E2-DDE0EC96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4132-1A1A-45BA-AC83-D8DE8F8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EBF8-F32F-48CD-A34D-76CFF89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D8F5-37B9-4366-900D-4417053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BB2-DD72-4A01-B49F-121ABD3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F0995-B50B-45A0-A86A-D61F07E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85B9-C297-4877-B5CF-AABF5359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9FA2-9C97-412A-8472-BBB4CB0C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5325-6EE4-4518-81F6-630498A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F1F7-393F-4150-9861-628F17A5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10B8-EF36-4BC6-A8F6-878D18A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1ED8B-3C5D-443B-B540-84BC9F91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1D67-CC18-49DD-BB00-48853E5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C20C-5048-48FF-8178-3B8DC1B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FD4B-D627-444C-BF3A-14CDC91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793-210B-41A9-9AD2-37C37364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CF52-1B48-4A4E-8814-652B673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F7BA-63C2-45C0-AF3C-13E0F3D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67A8-7842-4334-ABDC-DEA27B4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C7D2-D1F1-4DEF-B509-9DE4F1FF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FC5E-79CC-4B54-B933-D0A68D66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CECA-1331-4FCE-81F8-05B6C9FF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17DF-D380-4728-9573-B381937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A0561-1BA7-4813-A935-DFE67B0A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A4B2-0375-4912-AD7B-9E0C8B3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E81E-2957-456B-8470-04B9912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0C9-4499-4859-B726-EECF3A8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D306-19C6-4603-94F6-F2895B3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D85D-51BC-48C2-8CA2-909C238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CA2D-0D45-442F-A5A3-5621EDE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4EA9-3542-47AF-A328-22F820A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E3C1-B068-4592-A3AE-1D664743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95E5-3D0B-435B-AECA-A48100BF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41D0-80F5-4822-8C2F-D1D7041D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867-1C8E-4A58-B36D-874331D1E740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40E-A1D2-4D7B-BF58-869031CC7068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2181-2638-4B47-BF9E-94E3B7CAE9D8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43E-E647-4341-9DA5-4EFDB78F52D6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7C6-5CA8-4B06-993F-B8775CDF0687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7CD-146E-487D-91FC-969CB84B1885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504-1C34-4EAB-B949-B4965EF8D6F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B7F-4743-423B-BD69-D9358CB6DC8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7DD-E339-4C2A-B748-B4196565CBE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3845-29E2-4257-9670-DB3DE4407C4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01D0-70F0-4705-98CF-DD1C479937C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AF6-7FD8-45C9-99ED-711A207EBAF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19C-D153-480D-9E5E-ED77E0EFF51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6A0-83E3-48B4-A5E1-662EFC399DD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DB6-5B9B-4E27-BFF4-A9EBB9994E34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7B82-0E1C-4A86-B7B3-570AA85C8821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FontDia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4AE-290A-4903-83A8-D74B575B3136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iati directorul AplicatieRichTextBox cu numele NumePrenum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alo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ti proiectul AplicatieRichTextBo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n directorul copi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entru edit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daugati butonul Font care sa permita schimbarea fontului textului selectat in zona de text, utilizand o fereastra specific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3B73-A23B-42F3-8E11-C2501133051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6591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83960" y="738000"/>
            <a:ext cx="895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lasati pe formular un buton de tip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utton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ocalizati in ToolBox control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ontDialog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si plasati-l pe formular (va aparea in partea de jos a spatiului de lucru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57B3-C4DE-42F5-85CF-B367143D0CC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733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79200" y="1484280"/>
            <a:ext cx="8956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ificati codul din handlerul evenimentului Click al butonului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stfe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7707-7A1F-40C6-B39B-8517CC4C2CD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467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9:12:13Z</dcterms:modified>
  <cp:revision>222</cp:revision>
  <dc:subject/>
  <dc:title>.NET Framework</dc:title>
</cp:coreProperties>
</file>