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9D5-9E0E-4A3A-A8F6-9131DA5F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CC0-2A88-4041-8CAB-C5AAFB97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C23-9098-49ED-8E4D-8B3891FD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768-F992-464B-8B63-8DC45C07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2B6E-0F31-477A-A629-6BEB0705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73F0-F830-4C05-BD9E-8CD7DA49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73AF-860D-4797-A1B5-2FEDCA57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4C6E-8446-4CFA-A55F-7DE4C184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525D-7F94-4574-98A7-2E185CE5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AE78-F993-41D8-9B89-B723CE27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2AC7-8808-4665-8053-A67A5D63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902-D675-4AA2-AEB1-1ED70B5F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2B7C-6122-4EDE-8C7C-907C770C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677B-26CA-4087-B8F5-59369EC1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FC92-3648-4E5B-9698-E6BB34F3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A87A-FDB0-4020-A527-093EE380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86B7-9397-4DAF-A35F-19498D88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129DC-946A-4078-9C7E-265E6981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88C93-3AC5-4149-A047-F3FB1772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03CBF-2723-4C02-A9E0-14F959DF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C70A-65FE-4C9E-865C-24A8C09C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4A1F8-8EC6-4FF7-A524-7385E5CB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B8B-3855-4DB5-BAEF-FBC13354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B567E-E81F-4E65-9055-284E1E1D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0F1E1-7B99-4070-B646-9DA4E821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09B7F-D45F-4917-A168-587CC951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CD4D7-6594-4A34-867A-9DA6B40C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6E19C-1AE6-4283-95B8-CC46A370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8B4DF-A39F-456A-BC84-0C18CD20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04C37-D374-460D-864C-476810A0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0EB89-600B-4AAE-824F-23711DD7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00CA8-E920-425A-A273-F5404A26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2C557-C15A-4703-9CB2-7C9CFD45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01F-BC3B-4616-A7AC-28554BAD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B45E1-E7F3-4F2F-8F6F-67B3AA88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C3DC2-77DE-4B9E-A459-600ADE7C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A7E78-6127-4B2B-A812-22D34897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B7F90-A968-41E7-A49E-EA45B8FA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21381-D538-4338-840C-2561E568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44888-3453-453C-9FE7-8EFD2069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F0FCD-9EDC-466A-8156-0B4516CD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66836-C919-4BEF-BB2F-9EA4E95F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ADBA4-1A52-40A4-B7B5-4143AAB5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C4F09-6546-453C-8AF7-E77DCD27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F2C9-856B-4F3A-A08D-2467AAA4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BDFD2-A279-4949-8B41-61E13341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5AAA2-80B8-40B7-80DF-2AD89D15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5258B-BBCF-4957-B709-2D9DE112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B7850-55B1-4907-AC7C-99962176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940B9-F70E-4F79-9880-65028407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3E61D-A7F8-4B66-9FD5-EA65D36A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DC12C-86EA-4BC3-B6D6-F73C103A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A2B2E-8EE3-41C4-B0C3-C2370F72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935DB-E1C8-466C-92A3-D6EB30B7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6A4BE-7221-484E-9FC0-189C67AB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826-B458-40A2-9530-69E02BEA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ED2C0-C46E-49A5-8960-7E167EF0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4D10A-A45E-4C9C-943B-409655B4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E9863-61F1-4C10-A21C-D4008047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3FC7D-1670-47E5-93F2-339AE3EC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5F8A8-4C13-4868-98C4-55133F96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C1CDF-92FA-4981-A1CF-F76ED1F3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A3DF8-B326-4312-8ADD-976FE07B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1CC42-51C0-48FD-9DE1-C0DA2993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52432-790C-45BD-883C-14C3D85B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FAE8A-EC30-4B66-8650-84BCDAB7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B08-8622-4C43-B930-08514620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3F5F3-E7ED-4C8F-B6F8-DBD4522E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D0928-94EE-4E27-AACB-8A458AD9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34302-58F7-4D7F-9F15-D80F92A2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9AA6A-9152-4290-A01A-4E639C5B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8197B-DFF5-4FF0-B349-15C7545F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D1041-0F7C-4BE6-8B80-126EE9F2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D0D0A-D2AE-40B7-B630-35392965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434C1-C5A2-483B-9A7B-F22D89BE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5C113-84F5-462A-8438-4CDF226A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A9E0C-AD3F-418A-BB2E-F2083204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85E-BA89-4572-A736-EFB84C43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67EE2-C730-43B6-A547-28318356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6B6A9-F5A6-4457-8269-FFF95C4D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513D2-0BB3-440E-BD14-8B0FF836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B2D96-99E4-4C8B-8E1B-2BB5E2BC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C87F1-D15F-4F7D-B5E4-9EB2B843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AC74F-3386-49E6-8AE3-CB78F36A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63EAE-DFD8-489F-A434-FA3E3A4C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754AB-9A8E-4C68-BB05-7B2C7D16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CE1B5-E723-47A4-884C-B16E663D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A0D88-EE2E-4E5A-B71D-67263AC4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C09-64C7-494E-B966-0C52095A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C2F62-1F98-44B5-A5EF-A2DFAB87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13E90-9AE4-4856-B822-72F96F3C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51BE1-29B5-45A2-8C59-DD646C4D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C7BB7-7C97-47C0-9E6C-975F2B64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A13F8-90AB-489E-8424-AC8FB070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FD210-CBDA-4B76-8750-698D1025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EE59F-7B70-4440-9A48-4557604B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352A-CF37-414F-B50C-C485165A6FE5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3D52-384B-4B89-9BAA-2D5FE9A36E55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re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ormă liberă 7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ormă liberă 1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ormă liberă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Conector drept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D833-273B-46CE-BE68-D445384528E3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AA26-FB68-4D19-8293-18335EF70CF5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În zigzag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5BE4-5687-4F78-AF2F-B7AA1D776376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8E34-AA4B-44B5-AEE2-5F4745824FE4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5CB2-471A-4E5E-9263-DC30D44B3241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5C5E-F66D-4CF2-A6D0-518B299D50FE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E29F-1E1E-4297-8EEF-C06D1641F6B2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38E2-E43A-47DC-90D7-B8AEF5D3576F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45FC-3B1B-41C3-974C-293EB52FDE51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344F-20F8-4B93-AA4E-512A7EF68B97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A11B-2501-4F3C-B733-D7B757927C9D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1FB8-9F2D-4D9D-A0B9-E48D18AC0449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ormă liberă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iunghi drept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iunghi drept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Conector drept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În zigzag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2B4A-C588-4D05-BCD9-A24A39F99050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BE81-6199-46E4-893B-D02F41ECFFFC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464646"/>
                </a:solidFill>
                <a:latin typeface="Lucida Sans Unicode"/>
              </a:rPr>
              <a:t>Programare vizual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464646"/>
                </a:solidFill>
                <a:latin typeface="Lucida Sans Unicode"/>
              </a:rPr>
              <a:t>Aplicatie MessageBo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DAB5-3B88-410D-A61D-6B98FC8754A5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148104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1. Creați un proiect cu numele NumePrenumeMesaje, cu următorul aspect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70000"/>
          </a:xfrm>
          <a:prstGeom prst="rect">
            <a:avLst/>
          </a:prstGeom>
          <a:ln w="0">
            <a:noFill/>
          </a:ln>
        </p:spPr>
      </p:pic>
      <p:sp>
        <p:nvSpPr>
          <p:cNvPr id="37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45D0-DEDF-4F00-AFB6-DD98FB1CA58D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3676680" cy="2666880"/>
          </a:xfrm>
          <a:prstGeom prst="rect">
            <a:avLst/>
          </a:prstGeom>
          <a:ln w="0">
            <a:noFill/>
          </a:ln>
        </p:spPr>
      </p:pic>
      <p:sp>
        <p:nvSpPr>
          <p:cNvPr id="377" name="TextBox 1"/>
          <p:cNvSpPr/>
          <p:nvPr/>
        </p:nvSpPr>
        <p:spPr>
          <a:xfrm>
            <a:off x="900000" y="52293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Indicatie: plasati pe formular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un control de tip Label (Introduceti un numar natural nenul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un control de tip TextBox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un control de tip Button (Verifica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78840" y="1355760"/>
            <a:ext cx="319428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2. Scrieti codul necesar pentru ca la apasarea butonului Verifica, daca numarul introdus in caseta tex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360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70000"/>
          </a:xfrm>
          <a:prstGeom prst="rect">
            <a:avLst/>
          </a:prstGeom>
          <a:ln w="0">
            <a:noFill/>
          </a:ln>
        </p:spPr>
      </p:pic>
      <p:sp>
        <p:nvSpPr>
          <p:cNvPr id="38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A145-EDBF-4927-B8E6-5D4FB9F368EF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0" y="4700520"/>
            <a:ext cx="3351240" cy="2133720"/>
          </a:xfrm>
          <a:prstGeom prst="rect">
            <a:avLst/>
          </a:prstGeom>
          <a:ln w="0">
            <a:noFill/>
          </a:ln>
        </p:spPr>
      </p:pic>
      <p:sp>
        <p:nvSpPr>
          <p:cNvPr id="382" name="TextBox 3"/>
          <p:cNvSpPr/>
          <p:nvPr/>
        </p:nvSpPr>
        <p:spPr>
          <a:xfrm>
            <a:off x="0" y="2784600"/>
            <a:ext cx="216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este număr natural nenul, sa apara o fereastra de mesaje cu structura si continutul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TextBox 10"/>
          <p:cNvSpPr/>
          <p:nvPr/>
        </p:nvSpPr>
        <p:spPr>
          <a:xfrm>
            <a:off x="3959280" y="1557360"/>
            <a:ext cx="216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este număr nul, sa apara o fereastra de mesaje cu structura si continutul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3"/>
          <a:stretch/>
        </p:blipFill>
        <p:spPr>
          <a:xfrm>
            <a:off x="6119640" y="1373040"/>
            <a:ext cx="2990880" cy="2171880"/>
          </a:xfrm>
          <a:prstGeom prst="rect">
            <a:avLst/>
          </a:prstGeom>
          <a:ln w="0">
            <a:noFill/>
          </a:ln>
        </p:spPr>
      </p:pic>
      <p:sp>
        <p:nvSpPr>
          <p:cNvPr id="385" name="TextBox 12"/>
          <p:cNvSpPr/>
          <p:nvPr/>
        </p:nvSpPr>
        <p:spPr>
          <a:xfrm>
            <a:off x="3965400" y="3776760"/>
            <a:ext cx="496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este număr negativ, sa apara o fereastra de mesaje cu structura si continutul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4"/>
          <a:stretch/>
        </p:blipFill>
        <p:spPr>
          <a:xfrm>
            <a:off x="5292720" y="4724280"/>
            <a:ext cx="3638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78920" y="1197000"/>
            <a:ext cx="8518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ndicație: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O soluție posibilă tratează evenimentul Click al butonului Verifica prin scrierea codului de mai jos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70000"/>
          </a:xfrm>
          <a:prstGeom prst="rect">
            <a:avLst/>
          </a:prstGeom>
          <a:ln w="0">
            <a:noFill/>
          </a:ln>
        </p:spPr>
      </p:pic>
      <p:sp>
        <p:nvSpPr>
          <p:cNvPr id="38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9114-232D-4578-A086-EFE0CAF9BB56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0" y="2492280"/>
            <a:ext cx="91425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04:22:31Z</dcterms:created>
  <dc:creator>DANA T.</dc:creator>
  <dc:description/>
  <dc:language>en-US</dc:language>
  <cp:lastModifiedBy>admin</cp:lastModifiedBy>
  <dcterms:modified xsi:type="dcterms:W3CDTF">2013-10-18T17:09:46Z</dcterms:modified>
  <cp:revision>202</cp:revision>
  <dc:subject/>
  <dc:title>.NET Framework</dc:title>
</cp:coreProperties>
</file>