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6A6-62CC-4CF5-A574-078CD6B7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DA7-E790-4DE5-A3E8-E616E529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1B2-15B6-46D8-9879-FDD394C8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DCC-B055-483D-9E47-253CA140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278F-40C7-470E-96FE-2212C983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4062-7DD0-4155-B148-D6E8B559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C397-688C-4E2C-8559-583FDFB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161A-BD44-44D4-8DA4-26841EEC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2D59-54AC-4D8A-ACAF-EBDBCB7E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0002-F0E3-4F4C-8089-29348634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00A8-C220-4D00-91E2-9218349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D8B-6E26-46C8-ABAF-529F8993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26B9-A8E2-424E-8A8C-3FBD1EB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57BC-90D3-4B9A-97F3-B3F7D14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102F-5DFB-42F8-84D4-9AE2882B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BB80-5A6E-4D61-AB52-0FD34EE6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0B19-3DBF-41FB-AC17-0F9C81CC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A335-56C7-4FB7-A930-A7B96B10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B121-77DD-48F8-9176-41759287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0E68-6C0E-4F58-9F94-830D515A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7800-7AF7-4510-BEEE-A5397AE3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5B49-367F-4712-9FD2-6ED0E665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FB9-3903-4212-AB30-28EDADFD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6BF7-D35B-4076-926F-A5D7CDF0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3514-BC8E-448C-ABAF-A3E81C1C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8123-7688-4307-B10D-3C056B7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B683-E2DC-45DC-86FC-73F11AA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72F4-1094-47D2-8AC3-3B4D13F4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537B-938C-48C7-9211-542E59F4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2329-DCE4-44B8-8AC9-CD0AED64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63B8-3D27-4087-831B-57F01CC0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CFCC-DE29-4BD3-8E7E-E876ABAB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B0CF-5BA8-420B-ABFB-C183D47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EF8-E3F1-4898-89FF-9F00C522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FD47-D19B-4A04-BBAB-3A7F2F9C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A331-5047-403C-A329-CB493F12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9E31-BC20-43B6-9044-93CAF646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BE39-CA00-4124-84C1-500A32E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2089-D052-4873-B4B1-DCF7BC2E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856E-D6A6-47B0-8242-6ADC87CC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3B85-FB1F-4A8F-B958-B3ED164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FE2D-44FC-449F-BDB7-000D1397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CCFC-C406-46F8-8A00-D8F6E972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1400-AFBC-47E8-812F-C64669D6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7D3-2659-4939-B497-5E6835F8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1B500-52AB-4B76-BCDB-8E53AA66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3D8B-951F-4D1B-A146-84A69BAB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069BF-C3BB-4E4C-87C7-A92C44B6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9865-D676-4B81-ADCB-0380D02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CD10B-26CC-43FF-B0A1-CF3A0378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31C00-7399-4A20-94FB-2BEAF83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59DE-3871-43A0-A021-C91980AE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9AC7-D846-4E55-A193-26451B7F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91493-301F-4DFF-9430-1EB4661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CCC8-4F9A-4346-BF2D-024E4699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CC3-BE7E-410E-BD5A-1FF8BC33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7CAA-83B1-450F-A2B0-F64FB77F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D8B5E-4458-4018-B4B3-61B784EC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DE1B-CB8E-4A6F-97FF-E4852288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8F3A2-C382-4F1C-ABB7-F38830C9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00B42-843C-414A-A9B5-41B78F8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EA84-476D-4CE4-9A70-86300B9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56A2-23F0-4A75-B4D8-56F1B18E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5AFA7-B12B-4830-A221-284A1E4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05C0C-4B0D-4686-91DF-3129C876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6E97-C7BB-446C-8DB2-40BB7CA1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28E-F93E-488F-84A3-38EF666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8FD8-490B-43A7-9635-23B56F4A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D88CB-546B-4DE4-B2FD-5DA587C7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AFA2-FFD7-4F33-86DA-0AABA7B5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FF0A-39F2-4A95-9DB5-9C000910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56A66-E1C0-47E4-B361-3E8764AB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942F5-D9E4-489C-9E1B-5F4C890B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2609-4526-4E44-B79C-E8D348EB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E9DB-C995-4389-BA15-2E08A938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B907C-45BE-4D81-B8F9-4ECC7FA7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175C5-9580-48E8-A0FC-956B558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2E4-F0AA-4AA7-A175-11B9466B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7D17-44B7-4670-9E6F-2CA946A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6FF94-8D43-4861-90D9-4BB7584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40701-EEEF-4655-98F1-8A7CFF0C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2644D-B46A-4345-A214-8C2C9A94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6E68A-9565-4064-A493-F0CC75C0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0AC0-4D1C-4F8F-82FF-4AD789B0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9EA38-76C9-4440-BDB8-6B717AA5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52AB-BE85-4621-97EC-B2E309C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C404E-2E79-4F87-B82E-5218924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92A0-6C40-4824-B31C-0798E116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180-2099-4FD9-B8E8-D7E7076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BA284-BA2D-4508-8AE4-4A9BEF6F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3C73-436A-4A25-B182-2871C02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AE82C-EDA3-48DC-8A5C-8E20319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2A411-AA60-4D0D-8870-0A19951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15002-F8E8-4E7F-93AB-F2AE559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8F9F-1FB6-4B79-888B-A3E5924F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98E2-FDB6-4458-99D1-EFCAE333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EF0-4C5C-4700-B4E0-83D27FE37F00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DA0B-E675-4921-BE3F-19B42A60130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r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ă liberă 7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ă liberă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ă liberă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drept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115E-16EE-4EBB-A552-03F127042D5F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CB5B-9998-4B0C-8E39-42229F14FAB8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În zigzag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DDB6-14E8-4534-8A75-CB94A3B5ABA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6F1-D6B1-4519-9B2B-682A02A59007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40C-7628-4CA7-97A1-E652D3E7DD3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D96-2F2C-49AC-97D0-DF7D7FEBA99F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93B4-62D0-43AC-8FA2-9F0E1A39D522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A305-C7DB-4954-B90C-25C03F66C240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2243-F2CF-4CFC-AEA3-AB684A44CEC9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15B-C41D-401B-8554-47BAB355D32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746A-FE49-4141-908A-3A43F4B986D9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910C-635F-4DC3-9DEF-2A60A274ADFC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ă liberă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unghi drept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unghi drept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drept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În zigzag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BCF-8E2E-4793-90A8-893732C1747B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71DC-165B-4731-BAFF-0403E7BA10EE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Programare vizual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Aplicatie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ave</a:t>
            </a: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FileDialo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902-2030-443B-9B7D-F757244FA267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480680"/>
            <a:ext cx="91440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iati directorul AplicatieRichTextBox cu numele NumePrenumeSaveFileDialo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schideti proiectul AplicatieRichTextBo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n directorul copiat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pentru edit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i scrieti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dul necesar pentru 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lveaza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isier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a se deschida o fereastr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care pute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ege directorul si numele fisierului in care sa fie salvat textuldin zona de text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 format rt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AA33-2B43-44F0-BE26-24FC9356DE0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9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4105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83960" y="738000"/>
            <a:ext cx="8956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ocalizati in ToolBox controlul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aveFileDialog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si plasati-l pe formular (va aparea in partea de jos a spatiului de lucru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u 2" descr=""/>
          <p:cNvPicPr/>
          <p:nvPr/>
        </p:nvPicPr>
        <p:blipFill>
          <a:blip r:embed="rId1"/>
          <a:stretch/>
        </p:blipFill>
        <p:spPr>
          <a:xfrm>
            <a:off x="347760" y="0"/>
            <a:ext cx="8351640" cy="11462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1577-165B-48F5-B009-3535863B073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101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83960" y="738360"/>
            <a:ext cx="895644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 fereastra de proprietati a acestui control completati corespunzator proprietatile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itle: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Salveaza fisierul!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faultExt: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rtf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u 2" descr=""/>
          <p:cNvPicPr/>
          <p:nvPr/>
        </p:nvPicPr>
        <p:blipFill>
          <a:blip r:embed="rId1"/>
          <a:stretch/>
        </p:blipFill>
        <p:spPr>
          <a:xfrm>
            <a:off x="347760" y="0"/>
            <a:ext cx="835164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F800-328B-4478-AA83-27FD4B35B9E4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8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54291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9200" y="1484280"/>
            <a:ext cx="8956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odificati codul din handlerul evenimentului Click al butonului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alveaza fisier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astfe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31C3-8531-46FB-9886-E93E8F4E4D5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2"/>
          <a:stretch/>
        </p:blipFill>
        <p:spPr>
          <a:xfrm>
            <a:off x="299880" y="2724120"/>
            <a:ext cx="8544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22:31Z</dcterms:created>
  <dc:creator>DANA T.</dc:creator>
  <dc:description/>
  <dc:language>en-US</dc:language>
  <cp:lastModifiedBy>admin</cp:lastModifiedBy>
  <dcterms:modified xsi:type="dcterms:W3CDTF">2013-10-18T18:54:46Z</dcterms:modified>
  <cp:revision>224</cp:revision>
  <dc:subject/>
  <dc:title>.NET Framework</dc:title>
</cp:coreProperties>
</file>